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A37B-CF3A-4DE4-BC45-2D11E461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73C-CD43-4475-A585-7BB6BB8B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0D4-B7D7-4022-96FF-FEDF22B0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F1C-68AF-4991-8F17-197ECA1D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1567-36AA-4122-B0FB-E39A5D29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385D-99F7-430B-A12D-130582A5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0571-59A4-448A-AA27-A580780E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9844-1A3B-43C0-BA79-76E9E38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070B-AA4F-4F34-915E-40E570A4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F09B-4C73-4130-A161-7458214D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20A4-1B4E-4881-90B0-373A7AD5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3CF-BF61-470A-BC8D-F52B4C23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BAF4-8C0D-4917-BAAF-2A580EA2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5FBC-AE9F-4930-A195-804C6FD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2B97-2AC3-4F9B-A925-84AA64C3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367D-2444-46B2-839D-E75FC8CD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C4A7-FBC5-4DC6-933D-BF80A697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BA80-CE27-43F0-BEF4-E54C9FCD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5050-DD2F-43BF-B7B8-3FC63873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731C-B412-4B35-9AE3-3D3B451D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CFF3-D49B-4EDA-89B4-167D3F1D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4CA4-AE9C-4F30-ADE4-176710DA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BFD-EA2E-4686-8C82-776EAB7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F423-9002-4709-B9A4-E1FC8D4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D3BD-EB1E-4836-90A7-75D00438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52822-3819-43EA-8BA8-960517C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47B8-45C1-4DCD-964F-62A1A85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0131-C49D-4696-B4C1-21EA6D1A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A85ED-7D96-49A3-AF2E-8EAA33561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2850-FC83-4A0A-A5D7-1CBCE33F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83DB-E908-4D3C-8BEC-2632C3C2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FE960-D188-4EC9-B3AB-4EE84439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DDB6-FCE3-4D46-BC0F-D351F424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785-4695-4788-A73C-1E525302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3FA4-8B7A-48CE-BD82-2D96A89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9D7E-ABEF-425A-A813-3F98B2ED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C90A-E148-4C1A-8961-DA99D7FA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73C98-7ACF-45C0-97CC-101F46AC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E0A9F-AFDF-4CF9-8D26-9B37C3B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603B-9EA5-405E-AC76-FE29470D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7095D-AD7A-41C2-A228-815105AC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AFE3-2FFF-4BEE-875A-772C82B5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C22B-B857-4D8A-9CA2-EA095263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C2B0-36E2-4607-B704-7C1223B9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1A5-8DCB-4396-9341-BEE74497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4AA32-AE93-42DD-87E0-A4B72C9A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9970B-297A-46D5-8136-C3FF9013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555A-DF44-4A3D-86FC-0D0C366E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D9FC-D9E6-467E-9BAB-388E2187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F12BF-F048-4B2C-B229-2F80538A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6B05F-EA5E-420E-B93A-DB43B23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B892C-4B19-4C51-8371-AB15C635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694B-E4A1-415C-8F64-43DD139C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D02E6-32B8-4864-89DD-146E0DC9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C8887-E351-4C1B-A9CA-FC8E5FB1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D3C-88A1-4145-8466-48DD50A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4BDAB-369A-4063-8334-A3CE9CC0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DCBFA-E5EF-47E3-89BC-474C03C8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B5E5D-B86A-42FF-995E-DDB04991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17E2-C8FA-4300-992F-059BE4CA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EDF6E-497E-4A3A-B536-20D43B5D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D7B2-2B62-4369-BC85-2F3176C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CDE0-DC5D-4AB9-BA5B-5A3AC8D5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DBAF0-FE63-43FC-B41A-CAAA5220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705D3-5D6D-46BF-ABE6-10EBF608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ECFC-B0F1-4D41-9F73-6961A11A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814-5787-4631-AF09-338665A9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0575D-067D-4B32-9556-39E5C2D2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5BE43-8FE3-4DAB-94C3-76ABB48D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DD2CE-9E9F-4A7A-AA78-D3CE9209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5544-4314-498C-9B6A-8716B2C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6DB-7801-42C3-941D-F8DA031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2346-832D-4F9D-B972-89F3BB4BBC0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E083-015B-438A-875F-D9CF870B7A9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49C1-5AB7-44A3-B116-B17C6FC28AF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5004-D0BF-4E50-B1D4-F5A4325F90D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3749-E08B-4DD6-B8DC-9B544BD4070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9A76-3B3F-4C7D-8B79-31858B4FE46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907920" y="1006560"/>
            <a:ext cx="6834240" cy="24429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ime Chang Personal Information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ersonal Inform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me: Jaime Cha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ge: 28 years 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x: Ma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ce: Hispan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igion: Cathol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rital Status: Sing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lace of Birth: Guayaquil-Ecuad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duc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ol: I.P.A.C 1987-199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gh School: I.P.A.C. 1994-2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llege: Cambridge College 2006-20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ork Experienc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lene’s - Sales Associate 2005-200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ychex – Distribution Specialist 2006-200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nkidz – Account Manager 2008-Curr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exel – Clinical Studies 2009-201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Hobb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c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nn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uit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ian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ial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Rela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om: Ivonne Espino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d: Jaime Chang S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other: Fabian Negre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sters: Maria F. Chang, Silvia Chang, Angeles Cha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iece: Valentina Davil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other in law: Pablo Davil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xpectat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raduate ASA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row as a professi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create a fami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share what I’ve learned in the US with those in Ecuad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ack home (Ecuador) and help those in ne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7:10:26Z</dcterms:created>
  <dc:creator>training</dc:creator>
  <dc:description/>
  <dc:language>en-US</dc:language>
  <cp:lastModifiedBy>training</cp:lastModifiedBy>
  <dcterms:modified xsi:type="dcterms:W3CDTF">2010-10-17T17:34:11Z</dcterms:modified>
  <cp:revision>3</cp:revision>
  <dc:subject/>
  <dc:title>Informaion Literacy</dc:title>
</cp:coreProperties>
</file>